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EAA-FF42-4F14-9578-999E17AC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9DB-560E-4BDF-90C5-79DE0EC5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0FA1A-C17B-4984-B333-37B7FD65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5331A-109E-4C77-8D2B-20DBF5C8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70C9A-CA9E-4F03-B8A6-307B5972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55511-09B9-4535-A3A4-231A545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79608-491C-4F2C-AFDB-D99D1AF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31F42-6A03-4D75-A3A5-BDA00D1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CF1F8-5D0C-43ED-A947-60A5C813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FAE3D-78F1-4CFF-93A4-0CA66FB1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6E38F-E7B5-40E2-A936-36366816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401F5-5220-4365-84D6-F35509FA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E59-D207-4019-ACF9-88AE37BC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4ADE3-090A-4DAB-801F-1152DE54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4A831-3911-4C3E-BE5A-05499386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CDD22-06A1-44D5-B18A-5ECD7984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8C80F-A961-4DB6-AE95-59A02F6E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0634D-9631-4DEE-870C-1D35DEF8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92E36-050A-4F53-8D8F-32D1B42E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E914F-4F03-4C52-9759-556B460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EF4DD-7473-42CF-A16B-99DE01D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6B44D-C6F4-475A-A2FE-78B08498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2E38F-C629-4F10-BBE1-3305533E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F3B-AC18-4175-9A55-AC1CB8A4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1569E-72B3-4ED7-90E6-E1F805CF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95693-C3E5-45FC-A128-AAD46FF6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B9ED3-5B5C-442C-9BA2-80E1176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DC833-0658-4F84-9514-0C009E8B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CB7D2-4019-4F5F-AE2C-6422856E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A077-DB44-49A9-A95A-445933A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42CFF-27DB-42A3-AF04-64DFCBB4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98D86-2FCD-4B56-96CC-6F56512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4EAED-CE25-468E-99C0-3633F33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CD415-6EA9-477D-9C40-721830A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C0BC-3E55-4214-9D07-6F649A20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2253B-3F2E-4383-BB20-B869A0F5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34C1E-41B9-4C67-8B5C-2CEC6635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8E864-C932-4556-AFD3-C88C161F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67DFB-EE46-4508-9974-5514E560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B4C71-D165-4DEF-AE44-C1F6DA84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D07EB-67AC-4F8A-846E-6481565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28972-B981-46B3-A690-D1464B97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FCB71-30EA-4BED-BFBC-B4D92EA2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FB885-9BE4-4CDD-99AC-E7348E88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4FDF6-EF15-4B2E-B956-8086A07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F93B-7A1F-4042-8706-40CE1BB9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A888F-8490-46FF-BF53-0A24C97C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67A8C3-7241-4AD1-AC54-2601F866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55E92-FE22-4F5E-B03B-9151E7EC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9A347-94B1-43B4-AA3D-EF0B6C21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C558B-DB8F-4A52-8018-9A4D3FF5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FC17-CE9E-44F5-9C57-41CFCC43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FF26-22FF-4F06-94C5-F3B9A462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1FE8-FC37-4F81-943E-DDBCBCC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B1E6-B1AB-4133-9BC1-F9837167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6605-3980-472F-8F1A-3594DF8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BB5-F6D6-47C9-9CE0-9BA3811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E332-B271-42B6-9C00-03797F1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3F81-E25E-46D2-B121-6488807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04D2-7141-415C-B042-1722A010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829E-5332-4D10-AAEF-A2C65623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5203-3C20-4BAA-A422-48B2E2E9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5A3D-E1AB-41B5-952E-ACEBCE79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3149-B543-46AF-9281-7AD67A47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0AA4-100B-4A9D-A003-3EB2B493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AB5E-B3C1-4DB3-9534-F0CB5E67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2504-D294-4642-95B5-E0748175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9FA-9C50-4E8E-B757-24370F2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0F4B-FDE1-4F17-9077-BA6D5C7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4F6A-B2CA-41C3-98CE-7FA7A22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4229-054A-4882-91BA-DB419A4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44AD-FA1E-47A9-AEE1-DA41D44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42F1-2570-4A2F-BB70-6F8EA158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4538-1B58-4043-9607-596C7651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B618-68E9-428C-ADDB-6F5BBBAF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CD13-0C9E-47F0-83A3-45C4C91A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45B9-8759-4DD5-A27F-10FD0F0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6B09-742E-41A0-9085-BE05A149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5CD-A3B5-4630-89B5-AC19F48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90AF-7E99-44E1-8977-ED9149FC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D04F-3294-4FFE-B327-AD4ACAF6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4BB0-058A-4580-B778-72894FE3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7A5A-16FC-4C44-84ED-03B05DA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851D4-D9CC-4711-9EED-4D1C0F4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71D1-B293-488E-ACC3-A67C114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B0F0-B8E5-4636-8458-EC8B88EC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B3288-F99B-413D-90AB-04B04F2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4465-B207-4A98-84A6-1B9A8E4E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21905-2638-4C21-BF71-A46FD115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384-56C1-4C44-B0DB-F00C24E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4DD9-DC2A-4C61-9490-1003DF42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14AB-4ED0-4B30-B240-4BA8BBFE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1FCE5-0663-4725-A9B1-7945EFED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26D2-5E4D-429C-90EE-022D4D46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16F3-092D-4EB2-83EE-950E955E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F2655-5CA6-4C9A-B977-A9F560D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927F-D629-4BDD-A6EE-7AC209C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F86D3-B409-4ECE-AF40-C97A1F4D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0B17-9380-41A0-9776-596F7217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CDE3-8D40-4652-9ABD-639A9180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965-82B2-4884-AECC-2D2E2D85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9282F-7E8A-4DAF-ACD4-707AC3CE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E4CE3-899D-4893-A27C-89B173E4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4951-05BA-4C54-ACD4-011B76F5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5C3BC-FC34-4D37-AEE0-109B4505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B44B5-E4F6-4EB0-AF27-0BC67FD6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CA3A-0829-4D6D-82E4-588BD22E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F7A35-A95D-45AB-BE8F-C8E8C8AC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EAFC-BA39-475D-B007-FE5541B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0C16F-813F-4C27-804C-93B5F2D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D1DD-7068-4007-BBE7-C694D10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203-AB68-4730-8481-5BA64AB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12F0-EC7C-45E6-97F6-C026925D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8C62-EC70-4D91-BC8F-7292E15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1D4B-1C9E-4772-8253-FE970265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C431-C8D5-4793-8D08-73DE0825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70F2B-509F-4DE8-8B65-A7366109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21061-2FBC-45A7-8D66-B627EB6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8F430-B9F9-4745-B7D3-F30F8CD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F9469-47A4-40E8-9F6B-CFBC515A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E4739-ED5F-496F-AF54-7E984FB0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A9282-C7DA-45A8-BD4C-CDA7C12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74F-D808-4DEE-AADE-5CD4BBF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0B28B-C70E-40C6-B8D7-AD36EAC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8E7B7-B9E5-4F12-84AB-49A19E1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9BD3-46B0-4B2F-8294-D5BDBDFA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309FD-674F-44A2-B8F9-B8DADCE5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3B31-4473-4CFE-A3A0-7C3B51FB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D9ED5-5120-46A8-BBA7-429C379D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29F0C-12C7-419A-AD30-87F69CFC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E5EF-DE95-4ABE-92F4-F7D8447C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FB919-B481-49B2-B68C-A94E92D1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C508E-ED8B-42CB-BF39-779966D8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92B-78EC-41E4-99DD-496D4879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5AEC-0D60-47E8-90CC-8DAD72D4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38C09-DBDA-4FED-9302-B2A38F6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85D8-78A1-4A3D-A922-F84BAD4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922F5-58EC-4721-9608-F60E512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1532E-D29C-46F4-A658-A483819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09554-4F29-446B-93E8-A0F913A8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CC8A6-520D-4316-91CB-0D486428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A0612-1221-4D84-8929-CCBFFAE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DC6BC-C14A-4298-8503-3BD73435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02196-3FDA-4111-9DD5-7242B04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8665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923D-FB25-4AAD-A4A6-7A4F6280FA91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4446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27080"/>
            <a:ext cx="8832960" cy="250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507960"/>
            <a:ext cx="2743200" cy="4889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1904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270000"/>
            <a:ext cx="419040" cy="3492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2599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EAAA-24E8-4FB9-AAE3-7081A860572D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5342040"/>
            <a:ext cx="3584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8665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1E81-06AB-4BEC-9310-9E3A6FCC42E6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30320"/>
            <a:ext cx="0" cy="520380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438280"/>
            <a:ext cx="60948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2516040"/>
            <a:ext cx="420480" cy="351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250776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DA09-A9E0-4343-BE60-39E695019D37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0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0160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2708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176220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1841400"/>
            <a:ext cx="419040" cy="351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1833120"/>
            <a:ext cx="457200" cy="36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E1D0-1A82-4279-9723-73CD10282D0C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855720"/>
            <a:ext cx="457200" cy="36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F370-0276-4B2F-BC43-59C045DC7AAA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584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1905120"/>
            <a:ext cx="8832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19160"/>
            <a:ext cx="8832960" cy="1782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2708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0318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176220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1841400"/>
            <a:ext cx="419040" cy="351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1833120"/>
            <a:ext cx="457200" cy="36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6473-C6AB-4F1B-871A-DB96B5188B88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312920"/>
            <a:ext cx="9360" cy="401616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5342040"/>
            <a:ext cx="3044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8665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AE0-3A24-41F9-BA06-3729342CAD94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1833120"/>
            <a:ext cx="0" cy="34894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2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143000"/>
            <a:ext cx="8832960" cy="7621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0666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86796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A86C-832B-4F77-A876-E292812FB81B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86328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8B14-2FBB-4B4D-91D0-C80A18361CBB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3176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5270040"/>
            <a:ext cx="60984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5F16-E298-4E51-972E-E61B091BB0BB}" type="slidenum"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27080"/>
            <a:ext cx="8832960" cy="2538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507960"/>
            <a:ext cx="2743200" cy="4889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2708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4446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1904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270000"/>
            <a:ext cx="419040" cy="3492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2599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31AA-105B-4558-9BDC-07FD44921690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5342040"/>
            <a:ext cx="338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Subtitle 2" descr=""/>
          <p:cNvPicPr/>
          <p:nvPr/>
        </p:nvPicPr>
        <p:blipFill>
          <a:blip r:embed="rId2"/>
          <a:stretch/>
        </p:blipFill>
        <p:spPr>
          <a:xfrm>
            <a:off x="1689120" y="1090440"/>
            <a:ext cx="6851520" cy="976320"/>
          </a:xfrm>
          <a:prstGeom prst="rect">
            <a:avLst/>
          </a:prstGeom>
          <a:ln w="0">
            <a:noFill/>
          </a:ln>
        </p:spPr>
      </p:pic>
      <p:pic>
        <p:nvPicPr>
          <p:cNvPr id="607" name="Title 1" descr=""/>
          <p:cNvPicPr/>
          <p:nvPr/>
        </p:nvPicPr>
        <p:blipFill>
          <a:blip r:embed="rId3"/>
          <a:stretch/>
        </p:blipFill>
        <p:spPr>
          <a:xfrm>
            <a:off x="96840" y="152280"/>
            <a:ext cx="81565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Big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echnological applications that affect biological processes and cellular functions are used in the food, pharmaceutical, and medical industr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iological molecules and their chemical properties affect cellular processes and biochemical reac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iochemical compounds play important structural and functional roles in cells of all living organism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Overall Expect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eorgia"/>
              </a:rPr>
              <a:t>B1. analyse technological applications of enzymes in some industrial processes, and evaluate technological advances in the field of cellular biology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eorgia"/>
              </a:rPr>
              <a:t>B2. investigate the chemical structures, functions, and chemical properties of biological molecules involved in some common cellular processes and biochemical reactions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eorgia"/>
              </a:rPr>
              <a:t>B3. demonstrate an understanding of the structures and functions of biological molecules, and the biochemical reactions required to maintain normal cellular functio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Minds 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ST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History: A Case Stu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3.2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describe the structure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of important biochemical compounds, including carbohydrates, proteins, lipids, and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nucleic acids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, and explain their function within ce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Francis and Crick DNA paper from Nature 195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DNA Ladder: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3.2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describe the structure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of important biochemical compounds, including carbohydrates, proteins, lipids, and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nucleic acids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, and explain their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function within ce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Wet Lab: Enzym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2.5 plan and conduct an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investigation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related to a cellular process (e.g., factors that affect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enzyme activity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; factors that affect transport of substances across cell membranes), using appropriate laboratory equipment and techniques, and report the results in an appropriate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Catalase and Rates of Rea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6:45:07Z</dcterms:created>
  <dc:creator>yogiji</dc:creator>
  <dc:description/>
  <dc:language>en-US</dc:language>
  <cp:lastModifiedBy>Admin</cp:lastModifiedBy>
  <dcterms:modified xsi:type="dcterms:W3CDTF">2012-01-31T14:39:46Z</dcterms:modified>
  <cp:revision>13</cp:revision>
  <dc:subject/>
  <dc:title>Biology 12</dc:title>
</cp:coreProperties>
</file>